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2B5-25FC-4DD1-8A2E-190F054B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C07-670F-4B46-952B-7A3BD2AD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EC6-DD8E-4F49-B592-5F5E3B76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AD5-B104-4736-991B-CDF1FF57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A35-7F3C-4BF6-B4A8-C35B834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E54-0802-4935-9398-5ECBAA6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A6F-2A49-43FA-9122-1E8246A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32D-0010-446D-9D40-CB1912CE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26E-3B79-4825-BDAE-4F54335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AA5-0CA5-4FFB-A434-0182C57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D95-A27F-4A7C-8914-426E854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551-DE28-4AEC-A2A2-89740C1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B9058-8332-4329-977C-6531316EE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99471-A202-4514-8D33-780C9EE36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5" descr="Flat Basketball.jpg"/>
          <p:cNvPicPr/>
          <p:nvPr/>
        </p:nvPicPr>
        <p:blipFill>
          <a:blip r:embed="rId1"/>
          <a:srcRect l="0" t="-20030" r="0" b="-2003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6" descr="Inflated Basketball.jpg"/>
          <p:cNvPicPr/>
          <p:nvPr/>
        </p:nvPicPr>
        <p:blipFill>
          <a:blip r:embed="rId2"/>
          <a:srcRect l="0" t="-6028" r="0" b="-6028"/>
          <a:stretch/>
        </p:blipFill>
        <p:spPr>
          <a:xfrm>
            <a:off x="5003640" y="1913040"/>
            <a:ext cx="3268800" cy="3662280"/>
          </a:xfrm>
          <a:prstGeom prst="rect">
            <a:avLst/>
          </a:prstGeom>
          <a:ln w="0">
            <a:noFill/>
          </a:ln>
        </p:spPr>
      </p:pic>
      <p:sp>
        <p:nvSpPr>
          <p:cNvPr id="46" name="Right Arrow 7"/>
          <p:cNvSpPr/>
          <p:nvPr/>
        </p:nvSpPr>
        <p:spPr>
          <a:xfrm>
            <a:off x="3960720" y="2992320"/>
            <a:ext cx="822240" cy="82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exert force onto something by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or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Push.jpg"/>
          <p:cNvPicPr/>
          <p:nvPr/>
        </p:nvPicPr>
        <p:blipFill>
          <a:blip r:embed="rId1"/>
          <a:stretch/>
        </p:blipFill>
        <p:spPr>
          <a:xfrm>
            <a:off x="1204920" y="2305080"/>
            <a:ext cx="2870280" cy="215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ull.gif"/>
          <p:cNvPicPr/>
          <p:nvPr/>
        </p:nvPicPr>
        <p:blipFill>
          <a:blip r:embed="rId2"/>
          <a:stretch/>
        </p:blipFill>
        <p:spPr>
          <a:xfrm>
            <a:off x="5229360" y="2305080"/>
            <a:ext cx="28670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77280" y="633744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of the individual particles add together to make up the pressure of th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Pressure Formula.png"/>
          <p:cNvPicPr/>
          <p:nvPr/>
        </p:nvPicPr>
        <p:blipFill>
          <a:blip r:embed="rId1"/>
          <a:srcRect l="0" t="-28023" r="0" b="-28023"/>
          <a:stretch/>
        </p:blipFill>
        <p:spPr>
          <a:xfrm>
            <a:off x="3014640" y="2498760"/>
            <a:ext cx="2805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pressur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unit of pressure is called 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mospheric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Straw.gif"/>
          <p:cNvPicPr/>
          <p:nvPr/>
        </p:nvPicPr>
        <p:blipFill>
          <a:blip r:embed="rId1"/>
          <a:srcRect l="-63643" t="0" r="-636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itude is the height above sea leve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ltitude _____________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ospheric pressure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Blaise Pascal.jpg"/>
          <p:cNvPicPr/>
          <p:nvPr/>
        </p:nvPicPr>
        <p:blipFill>
          <a:blip r:embed="rId1"/>
          <a:stretch/>
        </p:blipFill>
        <p:spPr>
          <a:xfrm>
            <a:off x="3519360" y="4110120"/>
            <a:ext cx="2729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04:48Z</dcterms:created>
  <dc:creator>Cleophis Carson</dc:creator>
  <dc:description/>
  <dc:language>en-US</dc:language>
  <cp:lastModifiedBy>Cleophis Carson</cp:lastModifiedBy>
  <dcterms:modified xsi:type="dcterms:W3CDTF">2011-09-20T09:25:05Z</dcterms:modified>
  <cp:revision>2</cp:revision>
  <dc:subject/>
  <dc:title>Pressure</dc:title>
</cp:coreProperties>
</file>